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61B7-CD2F-4AD1-80CA-88E3184A9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498F-118B-4214-ABA8-DED5EAECA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D38-E0A9-4066-ACC3-3674CDBE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2AE-2075-4CA2-A88C-B156892D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D2B-59D8-46D8-B1E8-5676EE49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233-54C2-403D-81D6-9CD20326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666-FA23-48EE-8D01-DE0F4CF1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22C-5106-4A7F-9168-69661D01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691-93E0-4FA4-9F9D-61725260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A42-000E-4E8D-83C5-3DF1D4A8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EB1-43D4-4BE2-9EBC-04B82145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620-7837-436B-80BD-841C79C3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36B-888A-4950-9920-7D61136D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76D-9E2A-496F-83CB-95863156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96E4-406B-4E9D-89F7-D25ACAAE6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Euro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McGregor</cp:lastModifiedBy>
  <dcterms:modified xsi:type="dcterms:W3CDTF">2012-06-19T00:31:18Z</dcterms:modified>
  <cp:revision>118</cp:revision>
  <dc:subject/>
  <dc:title>Museum of World Stuff</dc:title>
</cp:coreProperties>
</file>